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9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0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1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88590-4E1D-4627-8067-EC998F7A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F77329-9F5B-4B4C-A17F-79E2AEAF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FC2D10-B1E9-4E6E-AFE7-45E2BAD7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80B1-17F8-4C5E-969A-974182CB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KAREN – 1) staffing = 95% of total or of where we’re supposed to be now?  Need change for DECEMBER 1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raining based on DEC 1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till 92%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6D8-5F4C-4A3E-90E3-56B235EB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78B1-8ABE-49FB-A0E3-B3DD97B9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D3E3-7A6B-4387-8DB9-482AD711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D370E4-DDD9-402F-A0EE-0F483381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A9F0-3A90-4C43-B722-D2C75E80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6B14-E54D-4234-BA95-D167984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48FC-E73E-4A85-AB18-8568336A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715A-386B-4E18-9DF7-6ACB5613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E456-AE9B-48C3-958E-C8FEAE9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ADEEB-E3D2-4906-A58F-34C8790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EBF80-177F-405A-8FC8-22889D2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E9757-1650-4E30-B77E-E22C4CE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4F517-66A4-4D58-9804-579C3092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075BC-E921-4980-8EB0-1A2BB2F7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A290-E899-4096-851E-D33AB845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76C85-24FB-41A6-9F67-4F4896C4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28F24-8D06-4FE2-90D2-AC7389E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EB2CE-979B-4BB5-9756-7B5FFCE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BE754-76D8-478B-A5C7-D67B21B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D36D3-7770-462E-9B0B-8632310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CF64D-73C8-4251-9FD8-7E1E779E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8060B-273D-422C-98BE-3453670B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89A5-ACB9-4C71-9497-8E4EB5A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3A76-7532-4E41-8707-5363BE3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6D12-5DD1-483F-A7CD-5BB6F53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8A78-E676-4999-9436-5A48EE6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DB2B-B27D-41BC-A436-6CE3A42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CB3C-77C5-4E0A-9228-8E58092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DC0-009E-4CAD-8E74-87EB9BD9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6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09A7-A317-41A0-8CD8-AC23A8C44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26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55EC-C08A-417E-9148-946C246E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22716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5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06848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Market Implementation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SP Data Validation: Single Entry Model Go-Live Procedur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2440" y="9140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ntry Model (SEM)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reation and data validation –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Tool (SEM) Go-Live –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model validation -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o Nodal Protocol Section 3.10 for Network model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Single Entry Model Go-Live Procedure V0.03 for com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ing comments received from Network Data Support Working Group (NDS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key issues on the Procedure with ROS on June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ed NDSWG meeting on June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greed on next steps for th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d on June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Network Data Support Working Group to discuss TSP data/model validation activities prior to transition to Nodal Protocol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7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Procedure based on NDSWG feedback and seek TPTF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22A5-8076-4E20-A1C1-79F65EA484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ther Risk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2440" y="1523520"/>
            <a:ext cx="8396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vendor software releases have been received; outstanding releases inclu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(2 rele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5 (+ 2 known major patches to MM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5 scheduled due to CIM importer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equire additional FAT and Regression test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components have been designed and coded, but not completely deliv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 refactoring due to changes in upstream software remains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components fully tested remains 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NPRRs need to be closely evaluated for scope changes and impact to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0880" y="8827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her risks continue to be addressed by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D1CA-6E09-4B01-A3B2-0C8359C76C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st: Elemen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45608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8"/>
          <p:cNvSpPr/>
          <p:nvPr/>
        </p:nvSpPr>
        <p:spPr>
          <a:xfrm>
            <a:off x="479520" y="99072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Does not include impacts of schedul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1074-4854-4885-8C5A-79607DEA71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9520" y="10954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aff / Market Participan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Revis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Forward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Conc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va (CIM) Status /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Data Validation: Single Entry Model Go-Liv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A8AD-06A7-45B5-AE1A-71371398A4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1295280" y="2486160"/>
            <a:ext cx="7570800" cy="2035080"/>
          </a:xfrm>
          <a:prstGeom prst="rect">
            <a:avLst/>
          </a:prstGeom>
          <a:solidFill>
            <a:srgbClr val="c0c0c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Status: Overall Statu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20600" y="1984320"/>
            <a:ext cx="8686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dal Delivery status is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188200" y="777960"/>
            <a:ext cx="355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2280" y="865080"/>
            <a:ext cx="8655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RCOT Staff Readiness status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39680" y="1386000"/>
            <a:ext cx="368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Participant Readiness status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761160" y="2765520"/>
            <a:ext cx="1851120" cy="104760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525920" y="2768760"/>
            <a:ext cx="2016000" cy="104760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593720" y="2778120"/>
            <a:ext cx="2783160" cy="106056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4059000" y="2432160"/>
            <a:ext cx="18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dal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5614920" y="1279440"/>
            <a:ext cx="335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 status driven by Cycle 4 Survey results (engagement and training), EDS 3 trials participation, and new entrants to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5614920" y="2001960"/>
            <a:ext cx="31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d due to schedul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52560" y="285444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103320" y="399420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ar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 flipH="1">
            <a:off x="1747080" y="3184560"/>
            <a:ext cx="1003320" cy="4474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 flipH="1">
            <a:off x="3024360" y="3198960"/>
            <a:ext cx="1002960" cy="447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 flipH="1">
            <a:off x="4829040" y="3182760"/>
            <a:ext cx="1362240" cy="447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992840" y="3278160"/>
            <a:ext cx="11728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129120" y="3295800"/>
            <a:ext cx="9158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1863720" y="3287880"/>
            <a:ext cx="838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/>
          <p:cNvSpPr/>
          <p:nvPr/>
        </p:nvSpPr>
        <p:spPr>
          <a:xfrm flipH="1">
            <a:off x="4001400" y="785880"/>
            <a:ext cx="1361880" cy="447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165560" y="880920"/>
            <a:ext cx="1173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0"/>
          <p:cNvSpPr/>
          <p:nvPr/>
        </p:nvSpPr>
        <p:spPr>
          <a:xfrm flipH="1">
            <a:off x="4001400" y="1913040"/>
            <a:ext cx="1361880" cy="447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4165560" y="2008080"/>
            <a:ext cx="1173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 flipH="1">
            <a:off x="4001400" y="1336680"/>
            <a:ext cx="1361880" cy="4478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191120" y="1432080"/>
            <a:ext cx="11728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4"/>
          <p:cNvSpPr/>
          <p:nvPr/>
        </p:nvSpPr>
        <p:spPr>
          <a:xfrm flipH="1">
            <a:off x="2764800" y="4051440"/>
            <a:ext cx="1003320" cy="4474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811240" y="3995640"/>
            <a:ext cx="96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2981160" y="4162320"/>
            <a:ext cx="746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7"/>
          <p:cNvSpPr/>
          <p:nvPr/>
        </p:nvSpPr>
        <p:spPr>
          <a:xfrm flipH="1">
            <a:off x="3993480" y="4051440"/>
            <a:ext cx="1003320" cy="447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4093920" y="399564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4210200" y="4162320"/>
            <a:ext cx="745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0"/>
          <p:cNvSpPr/>
          <p:nvPr/>
        </p:nvSpPr>
        <p:spPr>
          <a:xfrm flipH="1">
            <a:off x="5222160" y="4051440"/>
            <a:ext cx="1003320" cy="447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5259600" y="3995640"/>
            <a:ext cx="98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5438880" y="4162320"/>
            <a:ext cx="745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3"/>
          <p:cNvSpPr/>
          <p:nvPr/>
        </p:nvSpPr>
        <p:spPr>
          <a:xfrm flipH="1">
            <a:off x="6450840" y="4051440"/>
            <a:ext cx="1003320" cy="447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551640" y="399564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6667560" y="4162320"/>
            <a:ext cx="745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614920" y="85896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 status driven by staffing and training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7453440" y="3838680"/>
            <a:ext cx="14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page beyond Dec. 1 has cost impl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1"/>
          <p:cNvSpPr/>
          <p:nvPr/>
        </p:nvSpPr>
        <p:spPr>
          <a:xfrm flipH="1">
            <a:off x="7058880" y="3214800"/>
            <a:ext cx="1359000" cy="447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95280" y="4643280"/>
          <a:ext cx="7565760" cy="1519200"/>
        </p:xfrm>
        <a:graphic>
          <a:graphicData uri="http://schemas.openxmlformats.org/drawingml/2006/table">
            <a:tbl>
              <a:tblPr/>
              <a:tblGrid>
                <a:gridCol w="784080"/>
                <a:gridCol w="2382840"/>
                <a:gridCol w="2373480"/>
                <a:gridCol w="2025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not aligned to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aligned to previous protocol ver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aligned with current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20000"/>
                      </a:srgbClr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product quality is not sufficient for Nodal la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Nodal products currently achieve quality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Nodal products currently achieve quality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2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&gt; 30 days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&lt; 30 days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 12/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2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gt; 319M +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lt; 319M +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lt; 319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918F-F2AA-45CD-96FE-573EA77B26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8212" t="70403" r="28105" b="16714"/>
          <a:stretch/>
        </p:blipFill>
        <p:spPr>
          <a:xfrm>
            <a:off x="474840" y="2127240"/>
            <a:ext cx="4308120" cy="676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Status: ERCOT Staf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445000" y="1649520"/>
            <a:ext cx="349596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agement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survey results came out at the end of May - ERCOT remains fully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departments in the IT division and one department in System Planning are behind scheduled training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recruiting S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wee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is currently ~92% staf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5% required for green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is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ing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cent develop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87520" y="1224000"/>
            <a:ext cx="76960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4840" y="1082520"/>
            <a:ext cx="77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Staff Readiness status i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5960" y="2065320"/>
            <a:ext cx="685800" cy="773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486400" y="55440"/>
            <a:ext cx="3433680" cy="528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418440" y="57240"/>
            <a:ext cx="687240" cy="60156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rcRect l="11864" t="42449" r="48977" b="31577"/>
          <a:stretch/>
        </p:blipFill>
        <p:spPr>
          <a:xfrm>
            <a:off x="474840" y="3278160"/>
            <a:ext cx="478944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476C-D67B-4CFF-BB78-A1AD76022E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Status: Market Participa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583240" y="822240"/>
            <a:ext cx="3294000" cy="110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 4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 survey completion from TDSPs and QSEs with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% response from QSEs w/o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7% response from 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4520" y="1095480"/>
            <a:ext cx="51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et Participant Readiness status is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448240" y="55440"/>
            <a:ext cx="3433680" cy="528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75600" y="57240"/>
            <a:ext cx="687240" cy="60156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863960" y="1957320"/>
            <a:ext cx="415764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agement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survey response drives amb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ity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MP2 and MP3 data reflective of new additions to the mark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ation and Qualification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10 (resource mapping) has improved steadily since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11 (RARF data) – only 6 RARFs have not been received (less than 0.5% of MWs), 83% of MWs have passed the second tier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metry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survey response drives amb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als Participation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MP15 data (EDS 3 trials participation based on TPO and COP) drives amb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52280" y="1782720"/>
            <a:ext cx="4711680" cy="3765600"/>
            <a:chOff x="152280" y="1782720"/>
            <a:chExt cx="4711680" cy="37656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rcRect l="11643" t="25505" r="45575" b="31625"/>
            <a:stretch/>
          </p:blipFill>
          <p:spPr>
            <a:xfrm>
              <a:off x="152280" y="1782720"/>
              <a:ext cx="471168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rcRect l="29005" t="48570" r="50313" b="31692"/>
            <a:stretch/>
          </p:blipFill>
          <p:spPr>
            <a:xfrm>
              <a:off x="2104920" y="3801960"/>
              <a:ext cx="2286000" cy="173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>
            <a:off x="4011480" y="2114640"/>
            <a:ext cx="675000" cy="6746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EA9D-06B6-415C-B5F8-FA91971278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 Revision: Planning Considera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7916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ear, achievable delivery d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ait until the EMS CIM Importer is thoroughly tested before committing to a new "go-live" d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ll include both the Real-Time Market and the Day-Ahead Market, as originally plann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view incorporating deferred items for the Dec. 1 d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testing time for TSPs and QSEs is needed in the new "go-live" 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time to validate the network operating model for TS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vide a draft of the new integrated schedule to TPTF for review and com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79520" y="83808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PTF has made several recommendations about how to proceed with planning efforts. ERCOT will consid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BB79-6F43-429D-8011-DB6F010C79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 Revision: Plan Forwar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728720"/>
            <a:ext cx="83818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a team to drive development of the new schedul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templates for individual project schedules, including all transition activitie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estimate the durations of all project activities based on historical dat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In Prog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comprehensive list of dependencies and link across project schedules, allowing schedules across projects to be dynamically generated as changes occur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the integrated master Nodal program schedul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schedule and options with TPTF and ERCOT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Pe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e for setting a new schedule date has not been finalized, but the team understands the sense of urgency as well as the importance of a realistic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34880" y="882720"/>
            <a:ext cx="80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is aggressively working to develop a revised integrated Nodal program schedule that is realistic and achie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2A69-F31F-45CD-8BE4-B4713032B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 the meantime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72872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ongoing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igh-valu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ing processes and infra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ing Nodal Integrated Release 1.0, the baseline integrated testing environment inclusive of all Nodal applications and supporting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ing release management process, build promotion strategy and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6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ing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0880" y="882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also continues delivery of high-value activities and improvements to processes and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523A-4D04-406B-8EE1-9BDA9620BF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EVA (CIM): Status and Impac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31237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M Importer has not completed Pre-FAT due to missing data and CIM Importer development issues.  Resolving the open issues is an iterativ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ing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the errors (code or data (AREVA or ERC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exporting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completion date will be provided once the iteration cycles dec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echnical team at AREVA the week of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ing testing support and helping to resolve missing data in the NMMS CIM XML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895320" y="1981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062000" y="1984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3027240" y="1992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6610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97880" y="163836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to s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2667240" y="162864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4960" y="2081160"/>
            <a:ext cx="1082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, Previous commitment of EMS CIM Delivery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583000" y="2116080"/>
            <a:ext cx="922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June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elivery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ated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June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4"/>
          <p:cNvSpPr/>
          <p:nvPr/>
        </p:nvSpPr>
        <p:spPr>
          <a:xfrm rot="16200000">
            <a:off x="7481880" y="847440"/>
            <a:ext cx="75960" cy="1771560"/>
          </a:xfrm>
          <a:custGeom>
            <a:avLst/>
            <a:gdLst>
              <a:gd name="textAreaLeft" fmla="*/ 0 w 75960"/>
              <a:gd name="textAreaRight" fmla="*/ 27360 w 7596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012080" y="140004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1523880" y="116208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Planned Integra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0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514440" y="1066680"/>
            <a:ext cx="8458200" cy="190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372240" y="76212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cal Schedule Events/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5"/>
          <p:cNvSpPr/>
          <p:nvPr/>
        </p:nvSpPr>
        <p:spPr>
          <a:xfrm>
            <a:off x="84391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782964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9"/>
          <p:cNvSpPr/>
          <p:nvPr/>
        </p:nvSpPr>
        <p:spPr>
          <a:xfrm rot="16200000">
            <a:off x="6198480" y="1383120"/>
            <a:ext cx="75960" cy="738360"/>
          </a:xfrm>
          <a:custGeom>
            <a:avLst/>
            <a:gdLst>
              <a:gd name="textAreaLeft" fmla="*/ 0 w 75960"/>
              <a:gd name="textAreaRight" fmla="*/ 27360 w 75960"/>
              <a:gd name="textAreaTop" fmla="*/ 19080 h 738360"/>
              <a:gd name="textAreaBottom" fmla="*/ 71928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5827680" y="133344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8-H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5"/>
          <p:cNvSpPr/>
          <p:nvPr/>
        </p:nvSpPr>
        <p:spPr>
          <a:xfrm>
            <a:off x="7491240" y="22399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o Live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8124840" y="140004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ost Go Live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9"/>
          <p:cNvSpPr/>
          <p:nvPr/>
        </p:nvSpPr>
        <p:spPr>
          <a:xfrm flipH="1">
            <a:off x="8129520" y="1714680"/>
            <a:ext cx="309600" cy="1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1635120" y="2127240"/>
            <a:ext cx="955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Jun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elivery date stated 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y Bo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2133720" y="198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38"/>
          <p:cNvCxnSpPr>
            <a:endCxn id="279" idx="1"/>
          </p:cNvCxnSpPr>
          <p:nvPr/>
        </p:nvCxnSpPr>
        <p:spPr>
          <a:xfrm flipV="1">
            <a:off x="568080" y="1531080"/>
            <a:ext cx="5258520" cy="39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Line 9"/>
          <p:cNvSpPr/>
          <p:nvPr/>
        </p:nvSpPr>
        <p:spPr>
          <a:xfrm>
            <a:off x="2943360" y="18223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54EC-878C-4D96-9C41-B85F4D0C9E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llyRose Anderson</dc:creator>
  <dc:description/>
  <dc:language>en-US</dc:language>
  <cp:lastModifiedBy>amartinez</cp:lastModifiedBy>
  <dcterms:modified xsi:type="dcterms:W3CDTF">2008-06-25T19:59:54Z</dcterms:modified>
  <cp:revision>1121</cp:revision>
  <dc:subject>Executive Director Presentation</dc:subject>
  <dc:title>TAC/TPTF Decks</dc:title>
</cp:coreProperties>
</file>